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9.jpeg" ContentType="image/jpeg"/>
  <Override PartName="/ppt/media/image40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FC03B-8B69-48E3-9291-0E1C9DB1E9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2D4C1-7A4E-462A-A729-988359B7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5378DD-9A5D-4581-8B08-1C90B2A2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FA298F-C65F-492B-B6C7-5699C1867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C71DC5-9388-4065-B76C-4DFE37494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60A67C-F2F6-4A01-A6C4-E3F44ACD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F83402-C339-44A2-8D8A-4DEA8EAB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CE403A-FE6F-4649-AF40-55557442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DC77E1-8097-4489-9633-FA98EDA1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62917A-D2E1-43C6-B9D3-D0B1B980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208091-8246-472A-8941-FDC7CC4BBF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53AD2-F43D-48F5-8602-3C82979090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536AB-E716-49F0-A861-A0B53EAC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2DA5D-9F10-41EB-A767-C4C237B7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54178-FF2E-457E-9F78-0478901A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F7219-0948-4097-9C0F-53E34F4B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BF273-E5B5-4CF7-B0BC-95C8DC35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3E5DB-B9C7-4D30-80D0-798B2A21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2D71F-102B-44C0-98EB-E3600D06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0EFC7-BBFF-4F88-BA98-2B5C61C3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5C8A5-DDC9-4601-A696-F4CFDBA4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4AE36-F9FD-458A-B608-0CB8506E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5CA2A-6BC2-408E-8B1D-C90FD2F6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8B3CA-DD39-4099-B7C2-59F8C85A76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53EED-4485-4DCF-8E5F-AF2C2B51CC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7C880C-0CCB-4964-B85A-3083CD277F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5F90E0-52F2-4725-8BDE-0EA85D84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488DC2-E080-4EDD-AE11-97D7779C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82BE53-5A34-4194-9B91-B0219BD6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49BEA2-424E-4A01-8D21-98FE7089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250F24-89D2-4683-8B67-55112D1F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113FB9-E3FA-4A79-896D-F97373CA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488846-F79C-476A-93F0-5277E019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78F968-9815-4BAB-A143-C5D08278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81470-2465-4A62-948E-62485408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ED4A8F-4210-47F0-A856-FC1115AC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DD831-F16C-4552-92E6-5287BF67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716DC-9E92-499F-AD84-DDB44FB49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801FB-2A8B-4149-801E-9A63A7C291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BF2EA-630F-4225-A43A-DEB4597D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5FBC7-60A8-4587-BC23-A3F2C1B6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3548A-1D3C-4C10-834D-9075826D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5B66D-9E1B-4495-816B-2E610D9D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E48A2-FF73-4EB5-9A3B-35BB6958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04973C-E816-4F85-AFF9-FE36CEB4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B08D8-8A1B-4CD0-9F35-E08FFB13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AD742-98E8-440E-9D9A-04B07D79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12E3A-95B7-4416-ACD2-9FE5B99A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3CB27-B733-4EB7-B78C-DA8D2AB1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F8E3F-85E7-4E11-B33E-CB3A2D1A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B8298-404E-41AE-B6C5-2CD66D6F92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6070D-ECB2-42F5-8AFF-C15F736DB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F83C0-AB96-4147-BA0A-CF43858C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A7EC0-9FBA-45BF-8F7A-9F58E04A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7F227-6F35-467C-BA30-E0EEFC50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FD762-2BE6-4E61-9790-E0FCA14C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E752E-D5F9-40E2-92D8-5E68B034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F8BDE-400E-45A6-B7CB-2A757683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F6D8E-FDA9-4AC4-9563-9ADF62E1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1EB02-677D-40FB-BA18-8B03350D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B9A07-351E-478C-BF23-D09E3AE4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6C4971-C274-401E-B5B8-FC745F4F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99E65-5BF0-4CD8-8CFB-405D2876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5580D-EA20-4168-AA98-3CE0C290B4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76FAB-B24B-49D7-B7D5-0EF7606D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78B38-D1CF-4E1A-9539-DB46A935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11B1E-84C8-4790-95BD-188412E4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699ED-0880-48A1-8D50-7932531E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AE8A0-4F51-4287-819E-340848B6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6C042-5DFB-481A-8D57-C5DEE39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65738-2DE0-48D5-B1E8-57EC9755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C54CA-ED5F-4D62-93B5-F38FAAB2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47BAF-567B-41D3-9FFA-F5419D1B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723A1-1BD8-4F92-AD63-B62DE618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9D5B2-CA25-49BB-ACAF-318FDF19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84D46-BF30-4E0C-9465-15474747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A4E8C-EC9F-4D90-A315-C4355FD5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763D4-0F76-4843-A74D-3C3E08E6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9A19D-11D4-466D-821B-40FDE148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C04FB-F61D-4F22-8365-32E5B21D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45C7B-50F2-474A-9840-6CCC047E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4E2B8-F97D-411A-811C-E29CC693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B67BA4-16A8-489D-8FB8-5F0B306C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9379A-BD84-4AA4-9BBF-7A4C47CA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6BC85-6D2D-4F43-9C88-EF2EAF76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209E6-1B12-447A-B111-C5F500B0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783926-10A3-4319-92D2-DA7AE2EB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7BC34-4B0E-4E72-9850-CEC22D9D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4C61C-F788-45B3-97D9-59F1FC2D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49111-7896-4144-A29A-616EAE08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6DCFC-D575-426C-AE46-1676DCA9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E61A6-0369-4D1B-93FF-C0F1918F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91931-298C-4BC3-B907-002A845B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17E99-E85B-4BC6-B691-8D8E910F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73BC35-3142-444B-B4D0-581FADC4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AACF7B-882B-4704-9260-F5228569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1333F-9BD6-48C3-805D-9985B0B5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C9E5E-7D54-45FC-A20B-7A16748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83A3B-955A-4F34-8E06-E118E4DB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70D129-59F9-4527-BCA7-58BBC52B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3EA05-8FBD-4980-A94C-FAB703C5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30DEF-9CCD-45C2-B8DA-B134E7DA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AC20E-98E0-4F6D-893A-AD21F6B8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45D9B-431F-444A-A08E-F3D9FC85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5CF62-429F-4345-80E3-7EDB0AD7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7AF7F-3036-429C-A4F9-690F087B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94B77-8582-4807-900C-DDB85076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45870-16A5-44C9-A674-744F10DF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F0458-F977-4DF1-9C64-4422E4FF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F91343-3250-4925-8901-94BBCC6E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EE7BA-3A0E-4226-8305-3206BF10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DDC0-E8E5-472F-92DB-ED37DFE7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2DD4F-2C59-45A1-89CE-127A42E9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7EBD1-1C27-48E2-A1C5-1AA83057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E778D-9D07-4B64-B373-DEA52693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092AB-0A29-429E-8EDB-43591F0E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A4158-53C3-4E84-9D5E-B294161D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72060B-84D4-4B78-A784-BA4EDA59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CEE58-C7A1-478F-9275-3E7C2A058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B7854-0A8B-48F1-83C9-A91D34B7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BA95E-6CD5-46EF-B42D-A0019C7F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7F0FD-90C5-4602-90FF-6CCC0B0B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F51C3F-D911-4A9A-B5AC-CCDA3738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65580-79F3-4DE4-B140-E66DA216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D7825-7A8F-435A-AF60-BAD202C9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9DBDA-2C1F-41E6-95D6-B54CA5F8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CED6F-359F-4396-96B6-A74DF78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73814A-9A51-4E97-8315-65475B76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89092-3F1C-4E5D-8D38-46190FC8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D9CDB-9A48-4C7D-91A4-FC4DDC4F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8330B-95EB-4D27-BED2-8751EB7E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62797-4DDA-4936-A474-9B9CF2D0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76D432-C254-45D6-AF14-1BE88D07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60639A-74A6-4F64-AE46-944BF2FC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05AE8-652D-4730-969F-4BC6AC69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BF4D13-10D9-4D19-A222-B2E779AE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8B5B14-C17B-4281-B304-C794353F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F4A3B9-C730-4A86-866E-54ED295B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55A820-8C5E-4820-AFF9-CEC76A17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D1413-EBAA-48B8-915A-2C2DBF17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F0E0B-4FB3-46CD-A213-EEEF8527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0329D0-D54A-4B13-AB7D-29D2A03C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30F88-339C-4C51-AD5C-E469A9B4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E830D-0CE1-49ED-805E-77B3B0A6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6CCF57-5725-46C4-BAB1-9558C00D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C03B4-CDCB-485D-90AE-51837EA0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D04E4-687A-4D22-BBA7-51689735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841F7-7466-42E5-A075-C0A02A76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16F739-3C9A-4AF0-9381-9D812592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75480-D94A-4EAA-B280-CA65D35C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316BB-452E-4EE8-8DCB-24FEDADD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5A273-C14F-4A44-9F0E-EE8DB19A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8A55A-EEE7-4EFE-A49F-9CB64EA3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9AD212-0A3F-4AA4-AB52-5FB307D7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43B23-A3A0-4B9C-B060-9BA8338F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3DFA90-AA22-4F6C-A514-6628728A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FE4A0-4277-47C4-AB3F-15AAD839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4CCCD2-8910-4AD6-A2D8-EF43FD70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17E72-F6D9-4423-B6CC-72828717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C7FD5-8F3B-4AE5-8A20-4BD111F4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74FC42-0307-4EF8-B6C4-24907DC7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B94070-1338-46DE-8D64-1380065B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42E39A-67AB-41B4-AF45-93B7313D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2E8E4-3E67-4A25-A71D-D4925066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67FA21-0FBA-48DB-8726-EB6B8A1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9410DA-B892-446B-BD85-744A31F0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4775E-227C-4772-B8A2-74202BAD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D927F0-B3EE-4897-978A-C18DD5AE2C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4E11D-A9CD-47D3-8C3F-1AE83693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CCB54C-EC28-4477-9321-5D3746AA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B052C-0912-4521-B936-AAC5B71B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B85BF-BA6B-4F18-9CFF-D4F2FFF6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77D748-8B9E-4B46-BC90-AC82FA39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1FA7C0-6558-4A1E-8A2C-6C26DCA5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5E63B7-A4B7-4138-B74A-16DF53AA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6AF292-1E27-499D-81EC-873737C8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669BED-DA5A-4BD3-9F25-505B6132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4B0BF-9938-45F9-851F-9C7EEB22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CDDE8-3F0C-46F2-BE03-72AEE90F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875F9D-10A8-40E5-84AE-75E1354B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825CED-7FB8-4EB6-8382-7B025E52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31F40-2DF5-4324-8188-FFE9790B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4AE57-CEF6-417B-A073-C7E0EEDB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05A5CD-2A9F-43DF-8EDC-9FE26939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061C10-4108-44E1-AB8C-B3008792A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6D5E9C-A356-4C6C-80D0-0115E706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745D27-CBB0-413B-9C03-E270813F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491F22-090B-4533-92F8-82AC4FAA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449DF5-0F54-444B-911A-BD65516B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ECB8D-1B04-48A4-A5FE-C346438A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796EE9-6AD5-4AC5-A43E-D294ACFE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58FA7-3738-4248-A6C7-3A13B46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CD579-2428-4B95-8813-A60BEFD6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205710-4903-4CA8-B45A-513187CE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4213D4-4597-44B0-B341-B2F49E96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CA551-E690-447A-AF1D-BF7DA1B0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EAFDC1-B618-47A0-A12C-2A6EE2AC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A85B6A-252E-44F2-AE63-5840A642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006A18-A04D-4A5E-B812-D0A489A4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44A11D-3EDC-4AA8-969A-7783DEE8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F9748-13A5-4849-87A7-46CB8B30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598258-5FF1-42C4-B53A-73E8E953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8FB58-0A1D-4D84-B358-62FD852F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D64102-B3ED-405F-82D1-E7F8CFD3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FBA812-C281-4313-88AB-008AB174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69E78A-5CB6-4EEC-A9FE-00CC3588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51D194-770C-4772-9CB3-740D2795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ECA16-1B4C-40B6-B284-E27480BB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73A8D1-FBD4-4369-8299-1BE1E113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29AB64-2B75-485E-B4E5-A55ED157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EA74ED-E26C-416D-96A0-A54783F9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BBDF-E317-4A23-94B2-28D654BD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478307-DF80-4413-8662-FD496A0B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BFE80-DE0D-4F64-B3B2-C0797AC9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235DD8-39AA-48E8-AF7A-B34CB15C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53412D-9CA5-4F7B-98C4-995E172B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D24F8-F9B8-44EF-900C-0F6D40F8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737EA2-57DE-4C4B-B019-4559CF0E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7CD2D-1521-447B-8311-35379EEEB5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33280-FCE4-40FD-B973-E7BD7C073E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DF2CC-6536-421B-9BB1-A90652E1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D8AE-853F-4262-8C5D-D7E47A3C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066B-910B-4940-B0FE-B8FC6073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8533-2AE6-4B12-9C8A-61526426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A2065-1CFA-4756-AB21-2BAA9FB0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5025-34E4-40DC-A3CD-8A034437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86215-2856-4A84-A8EC-37593C0C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D405-71AC-43B0-BCE9-5F72721E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4296-408F-429A-A4B7-49F11257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EF0F8-5801-489B-B95A-54DEF1BB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AD670-328C-4F5B-BA7C-FDA4401E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50C0-089F-401F-AA53-E11F54EBA7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32F04D-1EDF-41F7-9A1A-F414540928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EFBEA-A012-4AD6-B4E8-1B61D053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F8F6F-3BCF-40FC-9F35-02152EDE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286353-93EC-4428-858E-7A2B7E16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3E6CC-0105-4220-8F77-8549907D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F10AD8-C776-46E9-BF1A-D34981C0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C6C5E7-7261-4084-B671-9A1BD1D1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46DA4-586F-48F1-94E7-FC26B199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0C2457-6DB1-421C-8402-56D2D0F3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B50BE5-9063-4D05-B1B4-FC7B9D39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B8C45-B665-483B-A876-F029768F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6DB30-F966-49DF-8915-D5D6E22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B694-0A38-4FB1-A60E-DFF90AA8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E3BA3-BB4A-4539-B911-5A38546B6B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7F2D27-1464-4F20-B489-FF88D7F537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7863D5-0FE8-43C1-9A61-7E2CF673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D46F9A-98BA-4303-AE69-A3811188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4A1289-3A42-46B5-BC74-C9F0993E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5F877C-83C8-4108-991A-CBA58C81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DFBF5C-77BD-4EE0-9CAD-C7E0EDFF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07E814-E9C8-46BE-90D0-D689F501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F79403-BE88-47E2-A823-940F8D8D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99CE50-A207-4E60-8DF8-DD171F3F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97A9B-5349-47E5-AA65-BC3E867D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51ACD4-3428-4EB5-9510-7530C1C1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03CC9C-88DA-4F7F-9E85-5C1B7A6F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567B6D-A63D-4B9D-919F-02B3E20CC0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A7BCF-330C-4C69-9D7C-A8E8FCDC3A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C51F1-3DD3-4554-BFE5-D181B295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AFC6B-9E16-4B70-A604-CD89F6AD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ECA2A-8C64-40B1-BEE4-08496B18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5EDD0-9178-419F-858C-FD33FB0C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EF5FD-4FC3-41EA-A33F-7F83C553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08627-1A5D-4B4D-850F-9C24D358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CB8B-6F11-476D-8620-43C8BAF7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40EF2-66B8-4754-9634-2E376122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B4A30-84A8-4B13-809B-4EB8954A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6FFBC-792D-4BEB-880D-6CF229A1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A218E-0266-4745-A66E-C9C3EC2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58D5-1A0F-486B-A813-40EECC1113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34964C-FD58-46AD-90C7-5F5AC3EC7E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66102-2992-4B98-9370-323C03B1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5437B-8E92-4FA0-90FF-CE46D045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F83402-8515-4513-846B-C3092B22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13389-EA8E-4A5F-AE3C-902CEFE5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1D18B-7D64-4527-9C74-870D6D69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391F3-C0FE-494D-BD65-2886747E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80424F-5296-430F-814C-15A1F14D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CF99D-20C4-43FB-98B0-BCD79480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4D452-A4C3-4BBE-8F02-73DB4E40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B8B546-ABC4-4626-BE81-89CAE0BA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716F51-36F2-4491-A5BD-90A25E4B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32D76B-010B-4E40-B1B2-24E9740D99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D0C090-D518-47C8-B3AB-B8428DEA03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3246D9-20E6-4F58-AB78-0F3608EB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28BD8C-583A-4934-94D7-C10C673F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E2F3-7834-4B9C-9DA7-745109545A5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751A-CBDA-45B7-8EE7-08BFEFF6080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F74C-548A-41BE-B844-DEF79F03C60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813A-1258-4ABF-BCC5-EB29C31D36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C57B-35D6-4E3A-AF8D-D47E067D7CF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9609-D0FB-40A1-8492-22A7629C4D4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00BB-C224-4E4A-A940-3A21387FD98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E907-774C-4CE6-8FB8-7FD73BE7770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58BC-E9BD-4638-A18E-D0225499FF0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79F7-D1F2-4DBA-83C9-DCC53B076A4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3FDF-0E37-4F7F-A5C7-07AFFF64417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ED2F-4CC9-4A1E-8B27-0EF0245843C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283B-15D1-4D08-96F8-DC075F2A83C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8261-B0DC-4037-8A0E-8C5E90DAAA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C978-3583-4CB0-AB0C-DB2C23C7374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AFF2-BCA0-4E61-880B-BC60D1A01DE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10C1-234E-4CC8-877F-1F0D86FDFC8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6A4C-9BA1-48D2-90E6-1231A8009E1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4F56-C982-4AAB-AF0D-98C275E5D6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948F-0828-4FA1-8B30-D24BC4EAA06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81D7-632D-4D2C-8045-B826FA98D6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A997-9B21-4061-8B28-8421B17946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D354-E6DE-48BF-A0A3-BE37DBFD83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C2DA-D124-41F7-8CAD-60038660AA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10.jpeg"/><Relationship Id="rId13" Type="http://schemas.openxmlformats.org/officeDocument/2006/relationships/image" Target="../media/image11.jpe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17920" y="2841480"/>
            <a:ext cx="558720" cy="46224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422280" y="276876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乘 加 和 乘 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50760" y="87480"/>
            <a:ext cx="2822400" cy="527040"/>
            <a:chOff x="-50760" y="87480"/>
            <a:chExt cx="2822400" cy="527040"/>
          </a:xfrm>
        </p:grpSpPr>
        <p:pic>
          <p:nvPicPr>
            <p:cNvPr id="999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76320" y="87480"/>
              <a:ext cx="269532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50760" y="182520"/>
              <a:ext cx="372600" cy="274320"/>
              <a:chOff x="-50760" y="182520"/>
              <a:chExt cx="372600" cy="274320"/>
            </a:xfrm>
          </p:grpSpPr>
          <p:sp>
            <p:nvSpPr>
              <p:cNvPr id="1001" name="椭圆 5"/>
              <p:cNvSpPr/>
              <p:nvPr/>
            </p:nvSpPr>
            <p:spPr>
              <a:xfrm rot="16200000">
                <a:off x="179640" y="351000"/>
                <a:ext cx="9684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880" y="325800"/>
                <a:ext cx="20196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8"/>
              <p:cNvSpPr/>
              <p:nvPr/>
            </p:nvSpPr>
            <p:spPr>
              <a:xfrm rot="16200000">
                <a:off x="179640" y="227160"/>
                <a:ext cx="9684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880" y="198720"/>
                <a:ext cx="201960" cy="12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44160"/>
                <a:ext cx="3016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12480"/>
                <a:ext cx="3016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4200"/>
                <a:ext cx="301680" cy="11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01680" cy="11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2" descr="D:\我的文档-桌面-收藏夹\桌面\2786001_211039325000_2副本.jpg"/>
          <p:cNvPicPr/>
          <p:nvPr/>
        </p:nvPicPr>
        <p:blipFill>
          <a:blip r:embed="rId8"/>
          <a:stretch/>
        </p:blipFill>
        <p:spPr>
          <a:xfrm>
            <a:off x="6572160" y="85716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2" descr="D:\我的文档-桌面-收藏夹\桌面\2786001_211039325000_2副本.jpg"/>
          <p:cNvPicPr/>
          <p:nvPr/>
        </p:nvPicPr>
        <p:blipFill>
          <a:blip r:embed="rId9"/>
          <a:stretch/>
        </p:blipFill>
        <p:spPr>
          <a:xfrm>
            <a:off x="4572000" y="915840"/>
            <a:ext cx="1857240" cy="18576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2" descr="D:\我的文档-桌面-收藏夹\桌面\2786001_211039325000_2副本.jpg"/>
          <p:cNvPicPr/>
          <p:nvPr/>
        </p:nvPicPr>
        <p:blipFill>
          <a:blip r:embed="rId10"/>
          <a:stretch/>
        </p:blipFill>
        <p:spPr>
          <a:xfrm>
            <a:off x="857160" y="101916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2" descr="D:\我的文档-桌面-收藏夹\桌面\2786001_211039325000_2副本.jpg"/>
          <p:cNvPicPr/>
          <p:nvPr/>
        </p:nvPicPr>
        <p:blipFill>
          <a:blip r:embed="rId11"/>
          <a:stretch/>
        </p:blipFill>
        <p:spPr>
          <a:xfrm>
            <a:off x="2786040" y="784080"/>
            <a:ext cx="1857240" cy="1857600"/>
          </a:xfrm>
          <a:prstGeom prst="rect">
            <a:avLst/>
          </a:prstGeom>
          <a:ln w="0">
            <a:noFill/>
          </a:ln>
        </p:spPr>
      </p:pic>
      <p:sp>
        <p:nvSpPr>
          <p:cNvPr id="1013" name="矩形 6"/>
          <p:cNvSpPr/>
          <p:nvPr/>
        </p:nvSpPr>
        <p:spPr>
          <a:xfrm>
            <a:off x="785880" y="3002040"/>
            <a:ext cx="307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Calibri"/>
                <a:ea typeface="宋体"/>
              </a:rPr>
              <a:t>一共坐了多少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组合 17"/>
          <p:cNvGrpSpPr/>
          <p:nvPr/>
        </p:nvGrpSpPr>
        <p:grpSpPr>
          <a:xfrm>
            <a:off x="4606920" y="3652920"/>
            <a:ext cx="2715840" cy="809640"/>
            <a:chOff x="4606920" y="3652920"/>
            <a:chExt cx="2715840" cy="809640"/>
          </a:xfrm>
        </p:grpSpPr>
        <p:pic>
          <p:nvPicPr>
            <p:cNvPr id="1015" name="Picture 2" descr="D:\我的文档-桌面-收藏夹\桌面\1.jpg"/>
            <p:cNvPicPr/>
            <p:nvPr/>
          </p:nvPicPr>
          <p:blipFill>
            <a:blip r:embed="rId12"/>
            <a:stretch/>
          </p:blipFill>
          <p:spPr>
            <a:xfrm flipH="1">
              <a:off x="6572160" y="3652920"/>
              <a:ext cx="7506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AutoShape 27"/>
            <p:cNvSpPr/>
            <p:nvPr/>
          </p:nvSpPr>
          <p:spPr>
            <a:xfrm>
              <a:off x="4606920" y="3676680"/>
              <a:ext cx="1715400" cy="714600"/>
            </a:xfrm>
            <a:prstGeom prst="wedgeRoundRectCallout">
              <a:avLst>
                <a:gd name="adj1" fmla="val 58407"/>
                <a:gd name="adj2" fmla="val 60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我这样算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组合 18"/>
          <p:cNvGrpSpPr/>
          <p:nvPr/>
        </p:nvGrpSpPr>
        <p:grpSpPr>
          <a:xfrm>
            <a:off x="1428480" y="3551400"/>
            <a:ext cx="2643480" cy="911160"/>
            <a:chOff x="1428480" y="3551400"/>
            <a:chExt cx="2643480" cy="911160"/>
          </a:xfrm>
        </p:grpSpPr>
        <p:pic>
          <p:nvPicPr>
            <p:cNvPr id="1018" name="Picture 3" descr="D:\我的文档-桌面-收藏夹\桌面\2.jpg"/>
            <p:cNvPicPr/>
            <p:nvPr/>
          </p:nvPicPr>
          <p:blipFill>
            <a:blip r:embed="rId13"/>
            <a:stretch/>
          </p:blipFill>
          <p:spPr>
            <a:xfrm flipH="1">
              <a:off x="1428480" y="3551400"/>
              <a:ext cx="5713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AutoShape 27"/>
            <p:cNvSpPr/>
            <p:nvPr/>
          </p:nvSpPr>
          <p:spPr>
            <a:xfrm>
              <a:off x="2286000" y="3693960"/>
              <a:ext cx="1785960" cy="713880"/>
            </a:xfrm>
            <a:prstGeom prst="wedgeRoundRectCallout">
              <a:avLst>
                <a:gd name="adj1" fmla="val -63375"/>
                <a:gd name="adj2" fmla="val 67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我这样算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矩形 13"/>
          <p:cNvSpPr/>
          <p:nvPr/>
        </p:nvSpPr>
        <p:spPr>
          <a:xfrm>
            <a:off x="1857240" y="4524480"/>
            <a:ext cx="185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×3+2=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14"/>
          <p:cNvSpPr/>
          <p:nvPr/>
        </p:nvSpPr>
        <p:spPr>
          <a:xfrm>
            <a:off x="4929120" y="4524480"/>
            <a:ext cx="1857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×4-1=1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组合 15"/>
          <p:cNvGrpSpPr/>
          <p:nvPr/>
        </p:nvGrpSpPr>
        <p:grpSpPr>
          <a:xfrm>
            <a:off x="1336680" y="5216400"/>
            <a:ext cx="6021360" cy="924120"/>
            <a:chOff x="1336680" y="5216400"/>
            <a:chExt cx="6021360" cy="924120"/>
          </a:xfrm>
        </p:grpSpPr>
        <p:pic>
          <p:nvPicPr>
            <p:cNvPr id="1023" name="Picture 2" descr="D:\我的文档-桌面-收藏夹\桌面\1.jpg"/>
            <p:cNvPicPr/>
            <p:nvPr/>
          </p:nvPicPr>
          <p:blipFill>
            <a:blip r:embed="rId14"/>
            <a:stretch/>
          </p:blipFill>
          <p:spPr>
            <a:xfrm>
              <a:off x="1336680" y="5216400"/>
              <a:ext cx="130572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4" name="AutoShape 27"/>
            <p:cNvSpPr/>
            <p:nvPr/>
          </p:nvSpPr>
          <p:spPr>
            <a:xfrm>
              <a:off x="2733840" y="5283000"/>
              <a:ext cx="4624200" cy="666000"/>
            </a:xfrm>
            <a:prstGeom prst="wedgeRoundRectCallout">
              <a:avLst>
                <a:gd name="adj1" fmla="val -58337"/>
                <a:gd name="adj2" fmla="val 2762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在这样的算式中，要先算乘法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5" name="矩形 19"/>
          <p:cNvSpPr/>
          <p:nvPr/>
        </p:nvSpPr>
        <p:spPr>
          <a:xfrm>
            <a:off x="768600" y="666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alibri"/>
                <a:ea typeface="宋体"/>
              </a:rPr>
              <a:t>一、自主学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八边形 7"/>
          <p:cNvSpPr/>
          <p:nvPr/>
        </p:nvSpPr>
        <p:spPr>
          <a:xfrm>
            <a:off x="385920" y="85896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矩形 3"/>
          <p:cNvSpPr/>
          <p:nvPr/>
        </p:nvSpPr>
        <p:spPr>
          <a:xfrm>
            <a:off x="214200" y="1020600"/>
            <a:ext cx="5000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看图填写合适的数和运算符号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3" descr="D:\我的文档-桌面-收藏夹\桌面\7521353_153528078332_2副本.jpg"/>
          <p:cNvPicPr/>
          <p:nvPr/>
        </p:nvPicPr>
        <p:blipFill>
          <a:blip r:embed="rId1"/>
          <a:stretch/>
        </p:blipFill>
        <p:spPr>
          <a:xfrm>
            <a:off x="752400" y="1569960"/>
            <a:ext cx="1785960" cy="1489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D:\我的文档-桌面-收藏夹\桌面\7521353_153528078332_2副本.jpg"/>
          <p:cNvPicPr/>
          <p:nvPr/>
        </p:nvPicPr>
        <p:blipFill>
          <a:blip r:embed="rId2"/>
          <a:stretch/>
        </p:blipFill>
        <p:spPr>
          <a:xfrm>
            <a:off x="2324160" y="1569960"/>
            <a:ext cx="1785960" cy="1489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D:\我的文档-桌面-收藏夹\桌面\7521353_153528078332_2副本.jpg"/>
          <p:cNvPicPr/>
          <p:nvPr/>
        </p:nvPicPr>
        <p:blipFill>
          <a:blip r:embed="rId3"/>
          <a:stretch/>
        </p:blipFill>
        <p:spPr>
          <a:xfrm>
            <a:off x="3895560" y="1569960"/>
            <a:ext cx="1785960" cy="1489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D:\我的文档-桌面-收藏夹\桌面\7521353_153528078332_2副本.jpg"/>
          <p:cNvPicPr/>
          <p:nvPr/>
        </p:nvPicPr>
        <p:blipFill>
          <a:blip r:embed="rId4"/>
          <a:stretch/>
        </p:blipFill>
        <p:spPr>
          <a:xfrm>
            <a:off x="5467320" y="1569960"/>
            <a:ext cx="1785960" cy="1489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D:\我的文档-桌面-收藏夹\桌面\7521353_153528078332_2副本1.jpg"/>
          <p:cNvPicPr/>
          <p:nvPr/>
        </p:nvPicPr>
        <p:blipFill>
          <a:blip r:embed="rId5"/>
          <a:stretch/>
        </p:blipFill>
        <p:spPr>
          <a:xfrm>
            <a:off x="7253280" y="1855800"/>
            <a:ext cx="1033560" cy="10335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11"/>
          <p:cNvSpPr/>
          <p:nvPr/>
        </p:nvSpPr>
        <p:spPr>
          <a:xfrm>
            <a:off x="2286000" y="3213000"/>
            <a:ext cx="642960" cy="6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2"/>
          <p:cNvSpPr/>
          <p:nvPr/>
        </p:nvSpPr>
        <p:spPr>
          <a:xfrm>
            <a:off x="3357720" y="3213000"/>
            <a:ext cx="642960" cy="6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椭圆 13"/>
          <p:cNvSpPr/>
          <p:nvPr/>
        </p:nvSpPr>
        <p:spPr>
          <a:xfrm>
            <a:off x="4143240" y="3213000"/>
            <a:ext cx="642960" cy="642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4"/>
          <p:cNvSpPr/>
          <p:nvPr/>
        </p:nvSpPr>
        <p:spPr>
          <a:xfrm>
            <a:off x="4929120" y="3213000"/>
            <a:ext cx="642960" cy="6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5"/>
          <p:cNvSpPr/>
          <p:nvPr/>
        </p:nvSpPr>
        <p:spPr>
          <a:xfrm>
            <a:off x="2857680" y="3284640"/>
            <a:ext cx="5000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              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16"/>
          <p:cNvSpPr/>
          <p:nvPr/>
        </p:nvSpPr>
        <p:spPr>
          <a:xfrm>
            <a:off x="5857920" y="3213000"/>
            <a:ext cx="1000080" cy="6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7"/>
          <p:cNvSpPr/>
          <p:nvPr/>
        </p:nvSpPr>
        <p:spPr>
          <a:xfrm>
            <a:off x="2428920" y="32846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8"/>
          <p:cNvSpPr/>
          <p:nvPr/>
        </p:nvSpPr>
        <p:spPr>
          <a:xfrm>
            <a:off x="3500280" y="3271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9"/>
          <p:cNvSpPr/>
          <p:nvPr/>
        </p:nvSpPr>
        <p:spPr>
          <a:xfrm>
            <a:off x="4286160" y="3271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20"/>
          <p:cNvSpPr/>
          <p:nvPr/>
        </p:nvSpPr>
        <p:spPr>
          <a:xfrm>
            <a:off x="5072040" y="3271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21"/>
          <p:cNvSpPr/>
          <p:nvPr/>
        </p:nvSpPr>
        <p:spPr>
          <a:xfrm>
            <a:off x="6072120" y="32716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22"/>
          <p:cNvSpPr/>
          <p:nvPr/>
        </p:nvSpPr>
        <p:spPr>
          <a:xfrm>
            <a:off x="214200" y="4570560"/>
            <a:ext cx="7429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 4×3+4=       2×3-3=        5×5+5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×4-4=       5×3+2=        4×5-4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23"/>
          <p:cNvSpPr/>
          <p:nvPr/>
        </p:nvSpPr>
        <p:spPr>
          <a:xfrm>
            <a:off x="1785960" y="4735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24"/>
          <p:cNvSpPr/>
          <p:nvPr/>
        </p:nvSpPr>
        <p:spPr>
          <a:xfrm>
            <a:off x="4000680" y="47354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25"/>
          <p:cNvSpPr/>
          <p:nvPr/>
        </p:nvSpPr>
        <p:spPr>
          <a:xfrm>
            <a:off x="6397560" y="47070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26"/>
          <p:cNvSpPr/>
          <p:nvPr/>
        </p:nvSpPr>
        <p:spPr>
          <a:xfrm>
            <a:off x="1785960" y="533088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27"/>
          <p:cNvSpPr/>
          <p:nvPr/>
        </p:nvSpPr>
        <p:spPr>
          <a:xfrm>
            <a:off x="4038480" y="528012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28"/>
          <p:cNvSpPr/>
          <p:nvPr/>
        </p:nvSpPr>
        <p:spPr>
          <a:xfrm>
            <a:off x="6386400" y="52578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组合 2"/>
          <p:cNvGrpSpPr/>
          <p:nvPr/>
        </p:nvGrpSpPr>
        <p:grpSpPr>
          <a:xfrm>
            <a:off x="-50760" y="87480"/>
            <a:ext cx="3397320" cy="527040"/>
            <a:chOff x="-50760" y="87480"/>
            <a:chExt cx="3397320" cy="527040"/>
          </a:xfrm>
        </p:grpSpPr>
        <p:pic>
          <p:nvPicPr>
            <p:cNvPr id="1052" name="圆角矩形 15" descr=""/>
            <p:cNvPicPr/>
            <p:nvPr/>
          </p:nvPicPr>
          <p:blipFill>
            <a:blip r:embed="rId6"/>
            <a:stretch/>
          </p:blipFill>
          <p:spPr>
            <a:xfrm>
              <a:off x="108360" y="87480"/>
              <a:ext cx="3238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3" name="组合 4"/>
            <p:cNvGrpSpPr/>
            <p:nvPr/>
          </p:nvGrpSpPr>
          <p:grpSpPr>
            <a:xfrm>
              <a:off x="-50760" y="182520"/>
              <a:ext cx="450720" cy="274680"/>
              <a:chOff x="-50760" y="182520"/>
              <a:chExt cx="450720" cy="274680"/>
            </a:xfrm>
          </p:grpSpPr>
          <p:sp>
            <p:nvSpPr>
              <p:cNvPr id="1054" name="椭圆 5"/>
              <p:cNvSpPr/>
              <p:nvPr/>
            </p:nvSpPr>
            <p:spPr>
              <a:xfrm rot="16200000">
                <a:off x="196560" y="345960"/>
                <a:ext cx="100080" cy="12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5" name="椭圆 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5040" y="305640"/>
                <a:ext cx="214920" cy="10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6" name="椭圆 8"/>
              <p:cNvSpPr/>
              <p:nvPr/>
            </p:nvSpPr>
            <p:spPr>
              <a:xfrm rot="16200000">
                <a:off x="196560" y="217800"/>
                <a:ext cx="100080" cy="122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椭圆 9" descr=""/>
              <p:cNvPicPr/>
              <p:nvPr/>
            </p:nvPicPr>
            <p:blipFill>
              <a:blip r:embed="rId8"/>
              <a:stretch/>
            </p:blipFill>
            <p:spPr>
              <a:xfrm>
                <a:off x="185040" y="196560"/>
                <a:ext cx="214920" cy="10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8" name="圆角矩形 10" descr=""/>
              <p:cNvPicPr/>
              <p:nvPr/>
            </p:nvPicPr>
            <p:blipFill>
              <a:blip r:embed="rId9"/>
              <a:stretch/>
            </p:blipFill>
            <p:spPr>
              <a:xfrm>
                <a:off x="-50760" y="321480"/>
                <a:ext cx="376560" cy="9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7" descr=""/>
              <p:cNvPicPr/>
              <p:nvPr/>
            </p:nvPicPr>
            <p:blipFill>
              <a:blip r:embed="rId10"/>
              <a:stretch/>
            </p:blipFill>
            <p:spPr>
              <a:xfrm>
                <a:off x="-50760" y="294120"/>
                <a:ext cx="376560" cy="9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-50760" y="209880"/>
                <a:ext cx="376560" cy="9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-50760" y="182520"/>
                <a:ext cx="376560" cy="9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2" name="Rectangle 64"/>
          <p:cNvSpPr/>
          <p:nvPr/>
        </p:nvSpPr>
        <p:spPr>
          <a:xfrm>
            <a:off x="285840" y="92160"/>
            <a:ext cx="2811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二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6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4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32"/>
          <p:cNvSpPr/>
          <p:nvPr/>
        </p:nvSpPr>
        <p:spPr>
          <a:xfrm>
            <a:off x="349200" y="1006560"/>
            <a:ext cx="8448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一道算式里，如果有乘法和加法（或减法），都要先算乘法，再算加法（或减法）。解决实际问题时，我们要从多方面去思考，可以用不同的方法解决，哪种方法简便，就用哪种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"/>
          <p:cNvSpPr txBox="1"/>
          <p:nvPr/>
        </p:nvSpPr>
        <p:spPr>
          <a:xfrm>
            <a:off x="263520" y="1014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我会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×3+4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2×3-1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×2+3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5×2+3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×3+1=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3×2-2=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×3-2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5×1-2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组合 2"/>
          <p:cNvGrpSpPr/>
          <p:nvPr/>
        </p:nvGrpSpPr>
        <p:grpSpPr>
          <a:xfrm>
            <a:off x="-50760" y="87480"/>
            <a:ext cx="3133800" cy="527040"/>
            <a:chOff x="-50760" y="87480"/>
            <a:chExt cx="3133800" cy="527040"/>
          </a:xfrm>
        </p:grpSpPr>
        <p:pic>
          <p:nvPicPr>
            <p:cNvPr id="1078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93600" y="87480"/>
              <a:ext cx="298944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9" name="组合 4"/>
            <p:cNvGrpSpPr/>
            <p:nvPr/>
          </p:nvGrpSpPr>
          <p:grpSpPr>
            <a:xfrm>
              <a:off x="-50760" y="182520"/>
              <a:ext cx="415080" cy="274680"/>
              <a:chOff x="-50760" y="182520"/>
              <a:chExt cx="415080" cy="274680"/>
            </a:xfrm>
          </p:grpSpPr>
          <p:sp>
            <p:nvSpPr>
              <p:cNvPr id="1080" name="椭圆 5"/>
              <p:cNvSpPr/>
              <p:nvPr/>
            </p:nvSpPr>
            <p:spPr>
              <a:xfrm rot="16200000">
                <a:off x="189720" y="34848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1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00" y="314280"/>
                <a:ext cx="209520" cy="11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椭圆 8"/>
              <p:cNvSpPr/>
              <p:nvPr/>
            </p:nvSpPr>
            <p:spPr>
              <a:xfrm rot="16200000">
                <a:off x="189720" y="222120"/>
                <a:ext cx="98640" cy="118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3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54800" y="197640"/>
                <a:ext cx="209520" cy="11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4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31200"/>
                <a:ext cx="34200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7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301680"/>
                <a:ext cx="34200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11680"/>
                <a:ext cx="34200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42000" cy="103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8" name="Rectangle 64"/>
          <p:cNvSpPr/>
          <p:nvPr/>
        </p:nvSpPr>
        <p:spPr>
          <a:xfrm>
            <a:off x="285840" y="92160"/>
            <a:ext cx="2811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后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14"/>
          <p:cNvSpPr/>
          <p:nvPr/>
        </p:nvSpPr>
        <p:spPr>
          <a:xfrm>
            <a:off x="1830240" y="202896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矩形 1"/>
          <p:cNvSpPr/>
          <p:nvPr/>
        </p:nvSpPr>
        <p:spPr>
          <a:xfrm>
            <a:off x="1890720" y="299412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矩形 11"/>
          <p:cNvSpPr/>
          <p:nvPr/>
        </p:nvSpPr>
        <p:spPr>
          <a:xfrm>
            <a:off x="1809720" y="401328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矩形 12"/>
          <p:cNvSpPr/>
          <p:nvPr/>
        </p:nvSpPr>
        <p:spPr>
          <a:xfrm>
            <a:off x="1860480" y="499104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矩形 13"/>
          <p:cNvSpPr/>
          <p:nvPr/>
        </p:nvSpPr>
        <p:spPr>
          <a:xfrm>
            <a:off x="5586480" y="2028960"/>
            <a:ext cx="53316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矩形 16"/>
          <p:cNvSpPr/>
          <p:nvPr/>
        </p:nvSpPr>
        <p:spPr>
          <a:xfrm>
            <a:off x="5824440" y="299412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矩形 17"/>
          <p:cNvSpPr/>
          <p:nvPr/>
        </p:nvSpPr>
        <p:spPr>
          <a:xfrm>
            <a:off x="5757840" y="394344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矩形 18"/>
          <p:cNvSpPr/>
          <p:nvPr/>
        </p:nvSpPr>
        <p:spPr>
          <a:xfrm>
            <a:off x="5919840" y="4940280"/>
            <a:ext cx="5335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"/>
          <p:cNvSpPr txBox="1"/>
          <p:nvPr/>
        </p:nvSpPr>
        <p:spPr>
          <a:xfrm>
            <a:off x="40644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把口诀补充完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三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得三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）                              二（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三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得六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五一十                                    三五（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十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）十六                                 （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）五十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二（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得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）                               五（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五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二十五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四得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099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0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101" name="椭圆 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2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3" name="椭圆 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4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7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8" name="圆角矩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9" name="Rectangle 64"/>
          <p:cNvSpPr/>
          <p:nvPr/>
        </p:nvSpPr>
        <p:spPr>
          <a:xfrm>
            <a:off x="644400" y="20520"/>
            <a:ext cx="1973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14"/>
          <p:cNvSpPr/>
          <p:nvPr/>
        </p:nvSpPr>
        <p:spPr>
          <a:xfrm>
            <a:off x="1806480" y="1873080"/>
            <a:ext cx="895320" cy="53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1"/>
          <p:cNvSpPr/>
          <p:nvPr/>
        </p:nvSpPr>
        <p:spPr>
          <a:xfrm>
            <a:off x="6362640" y="1873080"/>
            <a:ext cx="60660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11"/>
          <p:cNvSpPr/>
          <p:nvPr/>
        </p:nvSpPr>
        <p:spPr>
          <a:xfrm>
            <a:off x="849240" y="2603520"/>
            <a:ext cx="60660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12"/>
          <p:cNvSpPr/>
          <p:nvPr/>
        </p:nvSpPr>
        <p:spPr>
          <a:xfrm>
            <a:off x="6800760" y="2592360"/>
            <a:ext cx="9460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13"/>
          <p:cNvSpPr/>
          <p:nvPr/>
        </p:nvSpPr>
        <p:spPr>
          <a:xfrm>
            <a:off x="1349280" y="3213000"/>
            <a:ext cx="4572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16"/>
          <p:cNvSpPr/>
          <p:nvPr/>
        </p:nvSpPr>
        <p:spPr>
          <a:xfrm>
            <a:off x="6054840" y="3244680"/>
            <a:ext cx="457200" cy="43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矩形 17"/>
          <p:cNvSpPr/>
          <p:nvPr/>
        </p:nvSpPr>
        <p:spPr>
          <a:xfrm>
            <a:off x="1944720" y="3911760"/>
            <a:ext cx="7570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矩形 18"/>
          <p:cNvSpPr/>
          <p:nvPr/>
        </p:nvSpPr>
        <p:spPr>
          <a:xfrm>
            <a:off x="6442200" y="3836880"/>
            <a:ext cx="5270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矩形 19"/>
          <p:cNvSpPr/>
          <p:nvPr/>
        </p:nvSpPr>
        <p:spPr>
          <a:xfrm>
            <a:off x="928800" y="4481640"/>
            <a:ext cx="5270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 txBox="1"/>
          <p:nvPr/>
        </p:nvSpPr>
        <p:spPr>
          <a:xfrm>
            <a:off x="2462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改写算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121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22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123" name="椭圆 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4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5" name="椭圆 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6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8" name="圆角矩形 7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9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0" name="圆角矩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1" name="Rectangle 64"/>
          <p:cNvSpPr/>
          <p:nvPr/>
        </p:nvSpPr>
        <p:spPr>
          <a:xfrm>
            <a:off x="644400" y="20520"/>
            <a:ext cx="1973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Line 33632"/>
          <p:cNvSpPr/>
          <p:nvPr/>
        </p:nvSpPr>
        <p:spPr>
          <a:xfrm>
            <a:off x="3087720" y="19098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33632"/>
          <p:cNvSpPr/>
          <p:nvPr/>
        </p:nvSpPr>
        <p:spPr>
          <a:xfrm>
            <a:off x="2548080" y="248436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33632"/>
          <p:cNvSpPr/>
          <p:nvPr/>
        </p:nvSpPr>
        <p:spPr>
          <a:xfrm>
            <a:off x="3689280" y="30481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33632"/>
          <p:cNvSpPr/>
          <p:nvPr/>
        </p:nvSpPr>
        <p:spPr>
          <a:xfrm>
            <a:off x="3165480" y="36655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33631"/>
          <p:cNvSpPr/>
          <p:nvPr/>
        </p:nvSpPr>
        <p:spPr>
          <a:xfrm>
            <a:off x="3508200" y="1751040"/>
            <a:ext cx="37656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33631"/>
          <p:cNvSpPr/>
          <p:nvPr/>
        </p:nvSpPr>
        <p:spPr>
          <a:xfrm>
            <a:off x="2975040" y="2327400"/>
            <a:ext cx="3776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33631"/>
          <p:cNvSpPr/>
          <p:nvPr/>
        </p:nvSpPr>
        <p:spPr>
          <a:xfrm>
            <a:off x="4118040" y="2890800"/>
            <a:ext cx="3776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3631"/>
          <p:cNvSpPr/>
          <p:nvPr/>
        </p:nvSpPr>
        <p:spPr>
          <a:xfrm>
            <a:off x="3592440" y="3508200"/>
            <a:ext cx="3762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33637"/>
          <p:cNvSpPr/>
          <p:nvPr/>
        </p:nvSpPr>
        <p:spPr>
          <a:xfrm>
            <a:off x="3968640" y="1784520"/>
            <a:ext cx="420840" cy="255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33637"/>
          <p:cNvSpPr/>
          <p:nvPr/>
        </p:nvSpPr>
        <p:spPr>
          <a:xfrm>
            <a:off x="3430440" y="2386080"/>
            <a:ext cx="41940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33637"/>
          <p:cNvSpPr/>
          <p:nvPr/>
        </p:nvSpPr>
        <p:spPr>
          <a:xfrm>
            <a:off x="4567320" y="2949480"/>
            <a:ext cx="42048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33637"/>
          <p:cNvSpPr/>
          <p:nvPr/>
        </p:nvSpPr>
        <p:spPr>
          <a:xfrm>
            <a:off x="4041720" y="3538440"/>
            <a:ext cx="41904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33631"/>
          <p:cNvSpPr/>
          <p:nvPr/>
        </p:nvSpPr>
        <p:spPr>
          <a:xfrm>
            <a:off x="4460760" y="1751040"/>
            <a:ext cx="3762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33631"/>
          <p:cNvSpPr/>
          <p:nvPr/>
        </p:nvSpPr>
        <p:spPr>
          <a:xfrm>
            <a:off x="3884760" y="2327400"/>
            <a:ext cx="3762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33631"/>
          <p:cNvSpPr/>
          <p:nvPr/>
        </p:nvSpPr>
        <p:spPr>
          <a:xfrm>
            <a:off x="5052960" y="2890800"/>
            <a:ext cx="3762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33631"/>
          <p:cNvSpPr/>
          <p:nvPr/>
        </p:nvSpPr>
        <p:spPr>
          <a:xfrm>
            <a:off x="4567320" y="3508200"/>
            <a:ext cx="3762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33637"/>
          <p:cNvSpPr/>
          <p:nvPr/>
        </p:nvSpPr>
        <p:spPr>
          <a:xfrm>
            <a:off x="4943520" y="1792440"/>
            <a:ext cx="41904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33631"/>
          <p:cNvSpPr/>
          <p:nvPr/>
        </p:nvSpPr>
        <p:spPr>
          <a:xfrm>
            <a:off x="5502240" y="1751040"/>
            <a:ext cx="3762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文本框 47"/>
          <p:cNvSpPr/>
          <p:nvPr/>
        </p:nvSpPr>
        <p:spPr>
          <a:xfrm>
            <a:off x="5870520" y="1357200"/>
            <a:ext cx="5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Oval 33637"/>
          <p:cNvSpPr/>
          <p:nvPr/>
        </p:nvSpPr>
        <p:spPr>
          <a:xfrm>
            <a:off x="4362480" y="2386080"/>
            <a:ext cx="41904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33631"/>
          <p:cNvSpPr/>
          <p:nvPr/>
        </p:nvSpPr>
        <p:spPr>
          <a:xfrm>
            <a:off x="4836960" y="2327400"/>
            <a:ext cx="37656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Oval 33637"/>
          <p:cNvSpPr/>
          <p:nvPr/>
        </p:nvSpPr>
        <p:spPr>
          <a:xfrm>
            <a:off x="5553000" y="2949480"/>
            <a:ext cx="42084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33631"/>
          <p:cNvSpPr/>
          <p:nvPr/>
        </p:nvSpPr>
        <p:spPr>
          <a:xfrm>
            <a:off x="6076800" y="2890800"/>
            <a:ext cx="37656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Oval 33637"/>
          <p:cNvSpPr/>
          <p:nvPr/>
        </p:nvSpPr>
        <p:spPr>
          <a:xfrm>
            <a:off x="5059440" y="3567240"/>
            <a:ext cx="419040" cy="255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33631"/>
          <p:cNvSpPr/>
          <p:nvPr/>
        </p:nvSpPr>
        <p:spPr>
          <a:xfrm>
            <a:off x="5626080" y="3537000"/>
            <a:ext cx="3762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54"/>
          <p:cNvSpPr/>
          <p:nvPr/>
        </p:nvSpPr>
        <p:spPr>
          <a:xfrm>
            <a:off x="5291280" y="19764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55"/>
          <p:cNvSpPr/>
          <p:nvPr/>
        </p:nvSpPr>
        <p:spPr>
          <a:xfrm>
            <a:off x="6513480" y="2484360"/>
            <a:ext cx="44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文本框 56"/>
          <p:cNvSpPr/>
          <p:nvPr/>
        </p:nvSpPr>
        <p:spPr>
          <a:xfrm>
            <a:off x="6051600" y="3149640"/>
            <a:ext cx="4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33631"/>
          <p:cNvSpPr/>
          <p:nvPr/>
        </p:nvSpPr>
        <p:spPr>
          <a:xfrm>
            <a:off x="6235560" y="1751040"/>
            <a:ext cx="3762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33631"/>
          <p:cNvSpPr/>
          <p:nvPr/>
        </p:nvSpPr>
        <p:spPr>
          <a:xfrm>
            <a:off x="5657760" y="2349360"/>
            <a:ext cx="376200" cy="31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33631"/>
          <p:cNvSpPr/>
          <p:nvPr/>
        </p:nvSpPr>
        <p:spPr>
          <a:xfrm>
            <a:off x="6883560" y="2819520"/>
            <a:ext cx="3762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33631"/>
          <p:cNvSpPr/>
          <p:nvPr/>
        </p:nvSpPr>
        <p:spPr>
          <a:xfrm>
            <a:off x="6505560" y="3495600"/>
            <a:ext cx="3780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文本框 61"/>
          <p:cNvSpPr/>
          <p:nvPr/>
        </p:nvSpPr>
        <p:spPr>
          <a:xfrm>
            <a:off x="3513240" y="1714680"/>
            <a:ext cx="47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文本框 62"/>
          <p:cNvSpPr/>
          <p:nvPr/>
        </p:nvSpPr>
        <p:spPr>
          <a:xfrm>
            <a:off x="3984480" y="1714680"/>
            <a:ext cx="3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63"/>
          <p:cNvSpPr/>
          <p:nvPr/>
        </p:nvSpPr>
        <p:spPr>
          <a:xfrm>
            <a:off x="4486320" y="171468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65"/>
          <p:cNvSpPr/>
          <p:nvPr/>
        </p:nvSpPr>
        <p:spPr>
          <a:xfrm>
            <a:off x="4987800" y="171468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66"/>
          <p:cNvSpPr/>
          <p:nvPr/>
        </p:nvSpPr>
        <p:spPr>
          <a:xfrm>
            <a:off x="5530680" y="1714680"/>
            <a:ext cx="3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67"/>
          <p:cNvSpPr/>
          <p:nvPr/>
        </p:nvSpPr>
        <p:spPr>
          <a:xfrm>
            <a:off x="6245280" y="17146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68"/>
          <p:cNvSpPr/>
          <p:nvPr/>
        </p:nvSpPr>
        <p:spPr>
          <a:xfrm>
            <a:off x="2975040" y="228600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0"/>
          <p:cNvSpPr/>
          <p:nvPr/>
        </p:nvSpPr>
        <p:spPr>
          <a:xfrm>
            <a:off x="3496320" y="2316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文本框 71"/>
          <p:cNvSpPr/>
          <p:nvPr/>
        </p:nvSpPr>
        <p:spPr>
          <a:xfrm>
            <a:off x="3884760" y="2249640"/>
            <a:ext cx="3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文本框 73"/>
          <p:cNvSpPr/>
          <p:nvPr/>
        </p:nvSpPr>
        <p:spPr>
          <a:xfrm>
            <a:off x="4356000" y="2330280"/>
            <a:ext cx="5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文本框 74"/>
          <p:cNvSpPr/>
          <p:nvPr/>
        </p:nvSpPr>
        <p:spPr>
          <a:xfrm>
            <a:off x="4844880" y="228924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文本框 75"/>
          <p:cNvSpPr/>
          <p:nvPr/>
        </p:nvSpPr>
        <p:spPr>
          <a:xfrm>
            <a:off x="5648400" y="2314440"/>
            <a:ext cx="39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文本框 76"/>
          <p:cNvSpPr/>
          <p:nvPr/>
        </p:nvSpPr>
        <p:spPr>
          <a:xfrm>
            <a:off x="4122720" y="2844720"/>
            <a:ext cx="4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文本框 77"/>
          <p:cNvSpPr/>
          <p:nvPr/>
        </p:nvSpPr>
        <p:spPr>
          <a:xfrm>
            <a:off x="4549680" y="2906640"/>
            <a:ext cx="4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文本框 78"/>
          <p:cNvSpPr/>
          <p:nvPr/>
        </p:nvSpPr>
        <p:spPr>
          <a:xfrm>
            <a:off x="5084640" y="28605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文本框 80"/>
          <p:cNvSpPr/>
          <p:nvPr/>
        </p:nvSpPr>
        <p:spPr>
          <a:xfrm>
            <a:off x="5540400" y="2901960"/>
            <a:ext cx="4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文本框 81"/>
          <p:cNvSpPr/>
          <p:nvPr/>
        </p:nvSpPr>
        <p:spPr>
          <a:xfrm>
            <a:off x="6107040" y="286056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文本框 82"/>
          <p:cNvSpPr/>
          <p:nvPr/>
        </p:nvSpPr>
        <p:spPr>
          <a:xfrm>
            <a:off x="6926400" y="2798640"/>
            <a:ext cx="3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文本框 83"/>
          <p:cNvSpPr/>
          <p:nvPr/>
        </p:nvSpPr>
        <p:spPr>
          <a:xfrm>
            <a:off x="3619440" y="35082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84"/>
          <p:cNvSpPr/>
          <p:nvPr/>
        </p:nvSpPr>
        <p:spPr>
          <a:xfrm>
            <a:off x="4049640" y="34974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文本框 85"/>
          <p:cNvSpPr/>
          <p:nvPr/>
        </p:nvSpPr>
        <p:spPr>
          <a:xfrm>
            <a:off x="4586400" y="35164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文本框 86"/>
          <p:cNvSpPr/>
          <p:nvPr/>
        </p:nvSpPr>
        <p:spPr>
          <a:xfrm>
            <a:off x="5059440" y="3508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文本框 87"/>
          <p:cNvSpPr/>
          <p:nvPr/>
        </p:nvSpPr>
        <p:spPr>
          <a:xfrm>
            <a:off x="5611680" y="3500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88"/>
          <p:cNvSpPr/>
          <p:nvPr/>
        </p:nvSpPr>
        <p:spPr>
          <a:xfrm>
            <a:off x="6505560" y="34653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422280" y="11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瓜子分别摆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，并分别列出两个算式（乘加、乘减算式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+4+4+2=4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+3+3+3+2=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+2+2+2+2+4=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+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190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1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192" name="椭圆 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3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4" name="椭圆 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5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6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7" name="圆角矩形 7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8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9" name="圆角矩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0" name="Rectangle 64"/>
          <p:cNvSpPr/>
          <p:nvPr/>
        </p:nvSpPr>
        <p:spPr>
          <a:xfrm>
            <a:off x="644400" y="20520"/>
            <a:ext cx="1973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矩形 14"/>
          <p:cNvSpPr/>
          <p:nvPr/>
        </p:nvSpPr>
        <p:spPr>
          <a:xfrm>
            <a:off x="1808280" y="2882880"/>
            <a:ext cx="36288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341280" y="99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、在　　里填上合适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×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×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×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×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×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3" name="组合 2"/>
          <p:cNvGrpSpPr/>
          <p:nvPr/>
        </p:nvGrpSpPr>
        <p:grpSpPr>
          <a:xfrm>
            <a:off x="-50760" y="87480"/>
            <a:ext cx="3481200" cy="527040"/>
            <a:chOff x="-50760" y="87480"/>
            <a:chExt cx="3481200" cy="527040"/>
          </a:xfrm>
        </p:grpSpPr>
        <p:pic>
          <p:nvPicPr>
            <p:cNvPr id="1204" name="圆角矩形 15" descr=""/>
            <p:cNvPicPr/>
            <p:nvPr/>
          </p:nvPicPr>
          <p:blipFill>
            <a:blip r:embed="rId1"/>
            <a:stretch/>
          </p:blipFill>
          <p:spPr>
            <a:xfrm>
              <a:off x="112680" y="87480"/>
              <a:ext cx="331776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5" name="组合 4"/>
            <p:cNvGrpSpPr/>
            <p:nvPr/>
          </p:nvGrpSpPr>
          <p:grpSpPr>
            <a:xfrm>
              <a:off x="-50760" y="182520"/>
              <a:ext cx="462240" cy="274320"/>
              <a:chOff x="-50760" y="182520"/>
              <a:chExt cx="462240" cy="274320"/>
            </a:xfrm>
          </p:grpSpPr>
          <p:sp>
            <p:nvSpPr>
              <p:cNvPr id="1206" name="椭圆 5"/>
              <p:cNvSpPr/>
              <p:nvPr/>
            </p:nvSpPr>
            <p:spPr>
              <a:xfrm rot="16200000">
                <a:off x="198720" y="34524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7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4760" y="30312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8" name="椭圆 8"/>
              <p:cNvSpPr/>
              <p:nvPr/>
            </p:nvSpPr>
            <p:spPr>
              <a:xfrm rot="16200000">
                <a:off x="198720" y="216360"/>
                <a:ext cx="100440" cy="122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9" name="椭圆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94760" y="196200"/>
                <a:ext cx="21672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50760" y="31860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1" name="圆角矩形 7" descr=""/>
              <p:cNvPicPr/>
              <p:nvPr/>
            </p:nvPicPr>
            <p:blipFill>
              <a:blip r:embed="rId5"/>
              <a:stretch/>
            </p:blipFill>
            <p:spPr>
              <a:xfrm>
                <a:off x="-50760" y="2919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2" name="圆角矩形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-50760" y="20916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3" name="圆角矩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-50760" y="182520"/>
                <a:ext cx="387720" cy="9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4" name="Rectangle 64"/>
          <p:cNvSpPr/>
          <p:nvPr/>
        </p:nvSpPr>
        <p:spPr>
          <a:xfrm>
            <a:off x="644400" y="20520"/>
            <a:ext cx="1973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41301"/>
          <p:cNvSpPr/>
          <p:nvPr/>
        </p:nvSpPr>
        <p:spPr>
          <a:xfrm flipV="1" rot="10800000">
            <a:off x="1806480" y="995400"/>
            <a:ext cx="60192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41301"/>
          <p:cNvSpPr/>
          <p:nvPr/>
        </p:nvSpPr>
        <p:spPr>
          <a:xfrm flipV="1" rot="10800000">
            <a:off x="2479320" y="1686600"/>
            <a:ext cx="601560" cy="47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41301"/>
          <p:cNvSpPr/>
          <p:nvPr/>
        </p:nvSpPr>
        <p:spPr>
          <a:xfrm flipV="1" rot="10800000">
            <a:off x="3576240" y="1686600"/>
            <a:ext cx="601560" cy="47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41301"/>
          <p:cNvSpPr/>
          <p:nvPr/>
        </p:nvSpPr>
        <p:spPr>
          <a:xfrm flipV="1" rot="10800000">
            <a:off x="2979360" y="3192480"/>
            <a:ext cx="60156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41301"/>
          <p:cNvSpPr/>
          <p:nvPr/>
        </p:nvSpPr>
        <p:spPr>
          <a:xfrm flipV="1" rot="10800000">
            <a:off x="3576240" y="2516040"/>
            <a:ext cx="60156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Rectangle 41301"/>
          <p:cNvSpPr/>
          <p:nvPr/>
        </p:nvSpPr>
        <p:spPr>
          <a:xfrm flipV="1" rot="10800000">
            <a:off x="2377800" y="2516040"/>
            <a:ext cx="60156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41301"/>
          <p:cNvSpPr/>
          <p:nvPr/>
        </p:nvSpPr>
        <p:spPr>
          <a:xfrm flipV="1" rot="10800000">
            <a:off x="4343040" y="3192480"/>
            <a:ext cx="60012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Rectangle 41301"/>
          <p:cNvSpPr/>
          <p:nvPr/>
        </p:nvSpPr>
        <p:spPr>
          <a:xfrm flipV="1" rot="10800000">
            <a:off x="3081240" y="3905280"/>
            <a:ext cx="60192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41301"/>
          <p:cNvSpPr/>
          <p:nvPr/>
        </p:nvSpPr>
        <p:spPr>
          <a:xfrm flipV="1" rot="10800000">
            <a:off x="4343040" y="3905280"/>
            <a:ext cx="60012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矩形 14"/>
          <p:cNvSpPr/>
          <p:nvPr/>
        </p:nvSpPr>
        <p:spPr>
          <a:xfrm>
            <a:off x="2627280" y="1779480"/>
            <a:ext cx="33192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矩形 1"/>
          <p:cNvSpPr/>
          <p:nvPr/>
        </p:nvSpPr>
        <p:spPr>
          <a:xfrm>
            <a:off x="3711600" y="1749600"/>
            <a:ext cx="33012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矩形 11"/>
          <p:cNvSpPr/>
          <p:nvPr/>
        </p:nvSpPr>
        <p:spPr>
          <a:xfrm>
            <a:off x="2616120" y="2641680"/>
            <a:ext cx="33012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矩形 12"/>
          <p:cNvSpPr/>
          <p:nvPr/>
        </p:nvSpPr>
        <p:spPr>
          <a:xfrm>
            <a:off x="3772080" y="2597040"/>
            <a:ext cx="33012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矩形 13"/>
          <p:cNvSpPr/>
          <p:nvPr/>
        </p:nvSpPr>
        <p:spPr>
          <a:xfrm>
            <a:off x="3156120" y="3254400"/>
            <a:ext cx="33012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矩形 16"/>
          <p:cNvSpPr/>
          <p:nvPr/>
        </p:nvSpPr>
        <p:spPr>
          <a:xfrm>
            <a:off x="4478400" y="3317760"/>
            <a:ext cx="33012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17"/>
          <p:cNvSpPr/>
          <p:nvPr/>
        </p:nvSpPr>
        <p:spPr>
          <a:xfrm>
            <a:off x="3244680" y="3965400"/>
            <a:ext cx="33192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矩形 18"/>
          <p:cNvSpPr/>
          <p:nvPr/>
        </p:nvSpPr>
        <p:spPr>
          <a:xfrm>
            <a:off x="4478400" y="3968640"/>
            <a:ext cx="330120" cy="34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6T01:33:00Z</dcterms:created>
  <dc:creator/>
  <dc:description/>
  <dc:language>en-US</dc:language>
  <cp:lastModifiedBy>万润仪器贸易公司</cp:lastModifiedBy>
  <dcterms:modified xsi:type="dcterms:W3CDTF">2020-08-21T00:36:36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